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92EB4-350D-49E5-8501-9AC71E409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257DF-2890-4758-BD6E-1817B2E71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41350-9A88-4085-AFC4-0BE8B8AD8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131DF-7301-434D-9A9D-A8BDAC5A9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450F8-B04F-42C1-A13A-849EE83C0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6E4B4-9736-4852-A2D0-0855859EE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6D0AA-6B1D-41F5-A192-CE2A5FE91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E9C05-FBC7-4C3E-ADFF-07BC49BB7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0634E-4688-4E40-83A6-DC8141B90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6E620-E8C6-4526-8257-49507C07C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086BA-C67F-462E-A471-35A4F9236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FE2FD-EA6E-48C4-A790-27F227EA4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B0C22-DC5A-4F27-9B70-6070E5902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DCD1B-4E46-4FDA-9862-C433F4766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077A6-9194-4494-951E-DFC9621FE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38088-E3ED-47EB-A279-1F09EC575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1A2CD-7E48-4FC7-82D7-31B51FEF0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C744D-0E0F-4CF0-99D0-BE094302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5715-E01A-4EC4-B9DF-9635760B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7964E-B0E4-41AA-AF7D-088231D89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D4C0D-EA57-4FA2-BA68-B0273B87C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D1203-33A5-40AD-A4FB-BF19CD57C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09DE-8ACF-42D7-AB29-054710365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19F52-9F52-445A-8EBD-8EDE17582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D5BC-F5A5-45D0-BA19-03FBD78212A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C0D2-7677-4C37-9CC5-4079A8225F8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to.org/" TargetMode="External"/><Relationship Id="rId2" Type="http://schemas.openxmlformats.org/officeDocument/2006/relationships/hyperlink" Target="http://www.wto.org/" TargetMode="External"/><Relationship Id="rId3" Type="http://schemas.openxmlformats.org/officeDocument/2006/relationships/hyperlink" Target="http://www.wto.org/"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四章  国际货币体系与国际金融组织</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Monetary System</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nd International financial Organiz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货币体系</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协调各国货币关系的规则和机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体系的演变</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880-1914</a:t>
            </a:r>
            <a:r>
              <a:rPr b="0" lang="zh-CN" sz="1800" spc="-1" strike="noStrike">
                <a:solidFill>
                  <a:srgbClr val="003366"/>
                </a:solidFill>
                <a:latin typeface="Arial"/>
              </a:rPr>
              <a:t>年的国际金本位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914-1939</a:t>
            </a:r>
            <a:r>
              <a:rPr b="0" lang="zh-CN" sz="1800" spc="-1" strike="noStrike">
                <a:solidFill>
                  <a:srgbClr val="003366"/>
                </a:solidFill>
                <a:latin typeface="Arial"/>
              </a:rPr>
              <a:t>年两次世界大战时期</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944-1973</a:t>
            </a:r>
            <a:r>
              <a:rPr b="0" lang="zh-CN" sz="1800" spc="-1" strike="noStrike">
                <a:solidFill>
                  <a:srgbClr val="003366"/>
                </a:solidFill>
                <a:latin typeface="Arial"/>
              </a:rPr>
              <a:t>年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1973</a:t>
            </a:r>
            <a:r>
              <a:rPr b="0" lang="zh-CN" sz="1800" spc="-1" strike="noStrike">
                <a:solidFill>
                  <a:srgbClr val="003366"/>
                </a:solidFill>
                <a:latin typeface="Arial"/>
              </a:rPr>
              <a:t>年以来的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布雷顿森林体系产生的背景</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布雷顿森林体系的主要内容与作用</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的缺陷与崩溃</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际货币体系的现状与发展前景</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有关国际货币体系的理论探讨</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伯恩斯坦的“储备单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吕埃夫的“金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金德尔伯格的“世界美元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特里芬的“国际货币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5</a:t>
            </a:r>
            <a:r>
              <a:rPr b="0" lang="zh-CN" sz="2000" spc="-1" strike="noStrike">
                <a:solidFill>
                  <a:srgbClr val="003366"/>
                </a:solidFill>
                <a:latin typeface="Arial"/>
              </a:rPr>
              <a:t>）“多种货币储备体系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关于国际货币体系的实践探索</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1</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国财长会议，订立</a:t>
            </a:r>
            <a:r>
              <a:rPr b="0" lang="en-US" sz="2000" spc="-1" strike="noStrike">
                <a:solidFill>
                  <a:srgbClr val="003366"/>
                </a:solidFill>
                <a:latin typeface="Arial"/>
              </a:rPr>
              <a:t>《</a:t>
            </a:r>
            <a:r>
              <a:rPr b="0" lang="zh-CN" sz="2000" spc="-1" strike="noStrike">
                <a:solidFill>
                  <a:srgbClr val="003366"/>
                </a:solidFill>
                <a:latin typeface="Arial"/>
              </a:rPr>
              <a:t>史密森协议</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2</a:t>
            </a:r>
            <a:r>
              <a:rPr b="0" lang="zh-CN" sz="2000" spc="-1" strike="noStrike">
                <a:solidFill>
                  <a:srgbClr val="003366"/>
                </a:solidFill>
                <a:latin typeface="Arial"/>
              </a:rPr>
              <a:t>年，</a:t>
            </a:r>
            <a:r>
              <a:rPr b="0" lang="en-US" sz="2000" spc="-1" strike="noStrike">
                <a:solidFill>
                  <a:srgbClr val="003366"/>
                </a:solidFill>
                <a:latin typeface="Arial"/>
              </a:rPr>
              <a:t>20</a:t>
            </a:r>
            <a:r>
              <a:rPr b="0" lang="zh-CN" sz="2000" spc="-1" strike="noStrike">
                <a:solidFill>
                  <a:srgbClr val="003366"/>
                </a:solidFill>
                <a:latin typeface="Arial"/>
              </a:rPr>
              <a:t>国委员会成立</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6</a:t>
            </a:r>
            <a:r>
              <a:rPr b="0" lang="zh-CN" sz="2000" spc="-1" strike="noStrike">
                <a:solidFill>
                  <a:srgbClr val="003366"/>
                </a:solidFill>
                <a:latin typeface="Arial"/>
              </a:rPr>
              <a:t>年，签定</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现行国际货币体系的特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国际储备资产多样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汇率变动不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区域货币一体化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国际货币体系的收支调节作用削弱</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国际货币体系的发展前景</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几种具有代表性的观点</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金融组织</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fontScale="86000"/>
          </a:bodyPr>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概述</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的产生与发展</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金融组织的性质与作用</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基金组织</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世界银行集团</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世界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开发协会</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金融公司</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四、区域性国际金融机构</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亚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欧洲投资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泛美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非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阿拉伯货币基金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世界贸易组织</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a:t>
            </a:r>
            <a:r>
              <a:rPr b="1" lang="zh-CN" sz="2000" spc="-1" strike="noStrike">
                <a:solidFill>
                  <a:srgbClr val="003366"/>
                </a:solidFill>
                <a:latin typeface="Arial"/>
              </a:rPr>
              <a:t>世界贸易组织</a:t>
            </a:r>
            <a:r>
              <a:rPr b="1" lang="zh-CN" sz="1800" spc="-1" strike="noStrike" u="sng">
                <a:solidFill>
                  <a:srgbClr val="003366"/>
                </a:solidFill>
                <a:uFillTx/>
                <a:latin typeface="Arial"/>
                <a:hlinkClick r:id="rId1"/>
              </a:rPr>
              <a:t>（简称“世贸组织”，</a:t>
            </a:r>
            <a:r>
              <a:rPr b="1" lang="en-US" sz="1800" spc="-1" strike="noStrike" u="sng">
                <a:solidFill>
                  <a:srgbClr val="003366"/>
                </a:solidFill>
                <a:uFillTx/>
                <a:latin typeface="Arial"/>
                <a:hlinkClick r:id="rId2"/>
              </a:rPr>
              <a:t>World Trade Organization -- WTO</a:t>
            </a:r>
            <a:r>
              <a:rPr b="1" lang="zh-CN" sz="1800" spc="-1" strike="noStrike" u="sng">
                <a:solidFill>
                  <a:srgbClr val="003366"/>
                </a:solidFill>
                <a:uFillTx/>
                <a:latin typeface="Arial"/>
                <a:hlinkClick r:id="rId3"/>
              </a:rPr>
              <a:t>）</a:t>
            </a:r>
            <a:r>
              <a:rPr b="0" lang="zh-CN" sz="1800" spc="-1" strike="noStrike">
                <a:solidFill>
                  <a:srgbClr val="003366"/>
                </a:solidFill>
                <a:latin typeface="Arial"/>
              </a:rPr>
              <a:t>是１９９４年４月１５日在摩洛哥的马拉喀什市举行的关贸总协定乌拉圭回合部长会议决定成立的一个独立于联合国的永久性国际组织，它的前身是成立于１９４７年的关贸总协定（</a:t>
            </a:r>
            <a:r>
              <a:rPr b="0" lang="en-US" sz="1800" spc="-1" strike="noStrike">
                <a:solidFill>
                  <a:srgbClr val="003366"/>
                </a:solidFill>
                <a:latin typeface="Arial"/>
              </a:rPr>
              <a:t>General Agreement on Tariffs and Trade--GATT</a:t>
            </a:r>
            <a:r>
              <a:rPr b="0" lang="zh-CN" sz="1800" spc="-1" strike="noStrike">
                <a:solidFill>
                  <a:srgbClr val="003366"/>
                </a:solidFill>
                <a:latin typeface="Arial"/>
              </a:rPr>
              <a:t>）。１９９５年１月１日，世界贸易组织正式开始运作，１９９６年１月１日，世界贸易组织正式取代关贸总协定。与关贸总协定相比，世贸组织的贸易协调和争端解决机制不仅涵盖商品货物贸易，而且涵盖服务贸易以及知识产权贸易等，而关贸总协定只适用于商品货物贸易；世贸组织是永久性的、世界性的国际组织，目前正式成员方已有</a:t>
            </a:r>
            <a:r>
              <a:rPr b="0" lang="en-US" sz="1800" spc="-1" strike="noStrike">
                <a:solidFill>
                  <a:srgbClr val="003366"/>
                </a:solidFill>
                <a:latin typeface="Arial"/>
              </a:rPr>
              <a:t>150</a:t>
            </a:r>
            <a:r>
              <a:rPr b="0" lang="zh-CN" sz="1800" spc="-1" strike="noStrike">
                <a:solidFill>
                  <a:srgbClr val="003366"/>
                </a:solidFill>
                <a:latin typeface="Arial"/>
              </a:rPr>
              <a:t>个，而关贸总协定只是一个临时性的、过渡性的多边协定。世界贸易组织与国际货币基金组织、世界银行共同构成了世界经济体系的三大支柱。 中国自１９８６年申请重返关贸总协定，为复关进行了长期的不懈努力，１９９５年７月１１日，世贸组织总理事会会议决定接纳中国为该组织的观察员。</a:t>
            </a:r>
            <a:r>
              <a:rPr b="0" lang="en-US" sz="1800" spc="-1" strike="noStrike">
                <a:solidFill>
                  <a:srgbClr val="003366"/>
                </a:solidFill>
                <a:latin typeface="Arial"/>
              </a:rPr>
              <a:t>2001</a:t>
            </a:r>
            <a:r>
              <a:rPr b="0" lang="zh-CN" sz="1800" spc="-1" strike="noStrike">
                <a:solidFill>
                  <a:srgbClr val="003366"/>
                </a:solidFill>
                <a:latin typeface="Arial"/>
              </a:rPr>
              <a:t>年</a:t>
            </a:r>
            <a:r>
              <a:rPr b="0" lang="en-US" sz="1800" spc="-1" strike="noStrike">
                <a:solidFill>
                  <a:srgbClr val="003366"/>
                </a:solidFill>
                <a:latin typeface="Arial"/>
              </a:rPr>
              <a:t>12</a:t>
            </a:r>
            <a:r>
              <a:rPr b="0" lang="zh-CN" sz="1800" spc="-1" strike="noStrike">
                <a:solidFill>
                  <a:srgbClr val="003366"/>
                </a:solidFill>
                <a:latin typeface="Arial"/>
              </a:rPr>
              <a:t>月</a:t>
            </a:r>
            <a:r>
              <a:rPr b="0" lang="en-US" sz="1800" spc="-1" strike="noStrike">
                <a:solidFill>
                  <a:srgbClr val="003366"/>
                </a:solidFill>
                <a:latin typeface="Arial"/>
              </a:rPr>
              <a:t>11</a:t>
            </a:r>
            <a:r>
              <a:rPr b="0" lang="zh-CN" sz="1800" spc="-1" strike="noStrike">
                <a:solidFill>
                  <a:srgbClr val="003366"/>
                </a:solidFill>
                <a:latin typeface="Arial"/>
              </a:rPr>
              <a:t>日，中国正式成为世界贸易组织第</a:t>
            </a:r>
            <a:r>
              <a:rPr b="0" lang="en-US" sz="1800" spc="-1" strike="noStrike">
                <a:solidFill>
                  <a:srgbClr val="003366"/>
                </a:solidFill>
                <a:latin typeface="Arial"/>
              </a:rPr>
              <a:t>143</a:t>
            </a:r>
            <a:r>
              <a:rPr b="0" lang="zh-CN" sz="1800" spc="-1" strike="noStrike">
                <a:solidFill>
                  <a:srgbClr val="003366"/>
                </a:solidFill>
                <a:latin typeface="Arial"/>
              </a:rPr>
              <a:t>个成员。</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从关贸总协定到世界贸易组织</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r>
              <a:rPr b="1" lang="en-US" sz="1800" spc="-1" strike="noStrike">
                <a:solidFill>
                  <a:srgbClr val="003366"/>
                </a:solidFill>
                <a:latin typeface="Arial"/>
              </a:rPr>
              <a:t>----</a:t>
            </a:r>
            <a:r>
              <a:rPr b="1" lang="zh-CN" sz="1800" spc="-1" strike="noStrike">
                <a:solidFill>
                  <a:srgbClr val="003366"/>
                </a:solidFill>
                <a:latin typeface="Arial"/>
              </a:rPr>
              <a:t>关贸总协定不同于一般的联合国组织，</a:t>
            </a:r>
            <a:r>
              <a:rPr b="0" lang="zh-CN" sz="1800" spc="-1" strike="noStrike">
                <a:solidFill>
                  <a:srgbClr val="003366"/>
                </a:solidFill>
                <a:latin typeface="Arial"/>
              </a:rPr>
              <a:t>它不仅仅是一个参加者的论坛，而且是通过一轮又一轮谈判所达成的多边贸易协定，其本身具有鲜明的契约性质。换言之，关贸总协定实际上是规定国际贸易准则的多边协定，关于关贸总协定的谈判为各缔约方实现降低关税、协调国际贸易关系、解决国际贸易争端提供了一个机制和场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主持的多边贸易谈判</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的局限性与世贸组织的成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贸总协定成立以来，对于扩大国际贸易，促进经济增长，提高人们的生活水平 ，都起到了一定的作用。但是，同推进全球贸易自由化的目标相比，关贸总协定具有相当大的局限性。关贸总协定的局限性主要表现在：第一，关贸总协定只是一个临时协定，并非正式的国际组织，充其量只是一个准国际组织。第二，关贸总协定的许多规则不严密，执行起来存在很大空隙，而且许多规则缺乏法律的约束力。第三，关贸总协定中存在着大量的“灰色区域”，有很多例外。这样，某些缔约国违背关贸总协定原则，用国内立法和行政措施对别国进行贸易歧视。第四，没有法律约束性的强制执行手段，许多重大国际贸易争端无法解决。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世界贸易组织</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宗旨、基本职能和法律地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组织机构和协议框架</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基本原则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02:02:31Z</dcterms:created>
  <dc:creator>MS User</dc:creator>
  <dc:description/>
  <dc:language>en-US</dc:language>
  <cp:lastModifiedBy>Dell</cp:lastModifiedBy>
  <dcterms:modified xsi:type="dcterms:W3CDTF">2021-08-23T22:50:05Z</dcterms:modified>
  <cp:revision>14</cp:revision>
  <dc:subject/>
  <dc:title>第九章  国际货币体系与国际金融组织</dc:title>
</cp:coreProperties>
</file>